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F05-81D6-41FB-9C52-9A007B5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452-9E6D-40BC-BB4C-FBC31081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CB6-1BBB-45BF-A41A-98EB4146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6A3-F8F3-4AF0-83BA-3E780B4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E48-28EE-4826-821E-4AA6A36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969-6A0D-4B22-93D1-FCB3B5D8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F23-B18B-458D-9540-F0A95D91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3D9-64C5-406D-A8E9-E6F3758F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170-465E-4511-8503-3E9E96A9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F13-280F-41BC-A6E6-9092EF0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BB1-DEE1-42A4-8787-61AD4F4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3B1-21AB-4775-9106-83952EB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7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10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48F-02A1-4CA6-BD7E-830F2B5F9C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Гигиена</a:t>
            </a:r>
            <a:br>
              <a:rPr sz="6300"/>
            </a:b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 сердечно-сосудистой системы.</a:t>
            </a:r>
            <a:endParaRPr b="0" lang="en-US" sz="6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59080" y="5259240"/>
            <a:ext cx="385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лковая Ольга Анатольев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«СОШ №11 г.Зеленокумс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етского района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вропольск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6301331"/>
          <p:cNvPicPr/>
          <p:nvPr/>
        </p:nvPicPr>
        <p:blipFill>
          <a:blip r:embed="rId1"/>
          <a:stretch/>
        </p:blipFill>
        <p:spPr>
          <a:xfrm>
            <a:off x="770040" y="704880"/>
            <a:ext cx="7603920" cy="5619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лияние алкоголя на сердце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4" name="Picture 3" descr="Безымянный 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32000" y="1773360"/>
            <a:ext cx="6429240" cy="2631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[BIO8_03-21]_[PD_05]"/>
          <p:cNvPicPr/>
          <p:nvPr/>
        </p:nvPicPr>
        <p:blipFill>
          <a:blip r:embed="rId1"/>
          <a:stretch/>
        </p:blipFill>
        <p:spPr>
          <a:xfrm>
            <a:off x="2050920" y="692280"/>
            <a:ext cx="5070600" cy="5619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лияние никотина на сосуды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7" name="[BIO8_03-21]_[MV_04].wmv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16720" cy="4087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424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лияние никотина на кровоснабжение кисти человека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89" name="Picture 3" descr="Безымянный"/>
          <p:cNvPicPr/>
          <p:nvPr/>
        </p:nvPicPr>
        <p:blipFill>
          <a:blip r:embed="rId1"/>
          <a:stretch/>
        </p:blipFill>
        <p:spPr>
          <a:xfrm>
            <a:off x="971640" y="2421000"/>
            <a:ext cx="7335720" cy="2678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Вещества табачного дым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526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ириди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Этил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зопр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диоактивный полон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ышья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ммиа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винец – 2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инильная кисло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ероводоро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гарный га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дм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Picture 4" descr="AMOBSTAC"/>
          <p:cNvPicPr/>
          <p:nvPr/>
        </p:nvPicPr>
        <p:blipFill>
          <a:blip r:embed="rId1"/>
          <a:stretch/>
        </p:blipFill>
        <p:spPr>
          <a:xfrm>
            <a:off x="708120" y="1935000"/>
            <a:ext cx="3529080" cy="4389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MSAD"/>
          <p:cNvPicPr/>
          <p:nvPr/>
        </p:nvPicPr>
        <p:blipFill>
          <a:blip r:embed="rId1"/>
          <a:stretch/>
        </p:blipFill>
        <p:spPr>
          <a:xfrm>
            <a:off x="3673440" y="1424160"/>
            <a:ext cx="2320920" cy="4660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Условия нормальной работы сердца:</a:t>
            </a:r>
            <a:endParaRPr b="0" lang="en-US" sz="3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68360" y="1341360"/>
            <a:ext cx="316692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зические упраж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8360" y="2349360"/>
            <a:ext cx="26654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ильный тру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8360" y="3357720"/>
            <a:ext cx="3024000" cy="5029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ый образ жизн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95280" y="4437000"/>
            <a:ext cx="33116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временный отд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859280" y="1484280"/>
            <a:ext cx="3816360" cy="4967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лучшается снаб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д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слородом и питательны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ам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вается сердеч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ца 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вается объ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овото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3851280" y="148428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348000" y="23493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635280" y="3429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3851280" y="4508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324000" y="5589720"/>
            <a:ext cx="388908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аз от вредных привыч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4356000" y="566100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авила тренировки сердечной деятельност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тепенное увеличение, и правильное дозирование нагрузк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авильное соотношение работы и отдых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24000" y="1934640"/>
            <a:ext cx="476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ебя я помучил нем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ак вспомню, ни ночи, ни дня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 мной ты покоя не знало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сти, моё сердце, меня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ак плетью, ах, будь я неладен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воё подгонял колотьё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 то, что я был беспощаден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сти меня, сердце моё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3" descr="VALENTN2"/>
          <p:cNvPicPr/>
          <p:nvPr/>
        </p:nvPicPr>
        <p:blipFill>
          <a:blip r:embed="rId1"/>
          <a:stretch/>
        </p:blipFill>
        <p:spPr>
          <a:xfrm>
            <a:off x="1255680" y="2492280"/>
            <a:ext cx="2317680" cy="3457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890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Lucida Console"/>
              </a:rPr>
              <a:t>СЕРДЦЕ</a:t>
            </a:r>
            <a:r>
              <a:rPr b="1" lang="en-US" sz="38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ru-RU" sz="3800" spc="-1" strike="noStrike">
                <a:solidFill>
                  <a:srgbClr val="ffffff"/>
                </a:solidFill>
                <a:latin typeface="Lucida Console"/>
              </a:rPr>
              <a:t>человека</a:t>
            </a:r>
            <a:endParaRPr b="0" lang="en-US" sz="3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3" name="Picture 3" descr="сердце ( т ) б"/>
          <p:cNvPicPr/>
          <p:nvPr/>
        </p:nvPicPr>
        <p:blipFill>
          <a:blip r:embed="rId1"/>
          <a:stretch/>
        </p:blipFill>
        <p:spPr>
          <a:xfrm>
            <a:off x="4211640" y="1557360"/>
            <a:ext cx="4068720" cy="4222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640560" y="5910120"/>
            <a:ext cx="13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1989000"/>
            <a:ext cx="66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сердц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мень тверды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блоко с багрово-красной коже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ет быть, меж ребер и аорт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ется шар, на шар земной похожий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или иначе все зем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щается в его предел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нет ему поко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всего есть дел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" name="TRACK__8.MP3" descr=""/>
          <p:cNvPicPr/>
          <p:nvPr/>
        </p:nvPicPr>
        <p:blipFill>
          <a:blip r:embed="rId2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987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спользуемые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нтернет- ресурсы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92798a68-f28e-40ba-ac38-e1d08e10cf6b/%5BBIO8_03-21%5D_%5BMV_01%5D.wmv   Работа при повышенной нагрузке тренированного и нетренированного сердца, изменение при этом сердечного выброса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5215708b-e108-46ee-806c-6c3f8b859d36/%5BBIO8_03-21%5D_%5BMV_04%5D.wmv  Доказательство вреда курения (влияние курения на скорость кровоток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668f081a-ace6-402d-b7f0-1e9611eded3f/%5BBIO8_03-21%5D_%5BPD_05%5D.jpg  Сердце в состоянии ожирен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чем причины сердечно-сосудистых заболеваний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к можно укрепить сердечно-сосудистую систему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обходимо ли человеку знать о факторах, негативно влияющих на сердечно-сосудистую систему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теросклероз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ражение стенок артерий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Ишемия сердц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мышечная недостаточность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Инфаркт миокард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образование тромба в кровеносных сосудах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Инсульт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сужение сосудов головного мозг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Гипер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вышенное артериальное давле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Гипо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ниженное артериальное давлени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тенокард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сужение коронарных артерий и ослабление кровоснабжения некоторых участков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По данным статистики  в Ставропольском кра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26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2007г. смертност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 рака – 13,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 сердечно-сосудист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болеваний – 61,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Picture 5" descr="AMIDEA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76360" y="2103480"/>
            <a:ext cx="1204920" cy="354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сердце ( т ) б"/>
          <p:cNvPicPr/>
          <p:nvPr/>
        </p:nvPicPr>
        <p:blipFill>
          <a:blip r:embed="rId1"/>
          <a:stretch/>
        </p:blipFill>
        <p:spPr>
          <a:xfrm>
            <a:off x="468360" y="1197000"/>
            <a:ext cx="201132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3635280" y="2205000"/>
            <a:ext cx="5040360" cy="79236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иподинамия (недостаток двигательной активност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дет к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4788000" y="5300640"/>
            <a:ext cx="3959280" cy="57636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лкоголь отравляет сердечную мышц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вивается сердечная недостаточность</a:t>
            </a: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284720" y="3284640"/>
            <a:ext cx="4464000" cy="79200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икотин вызывает устойчивый спазм сосудов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фаркт миокар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4643280" y="4367160"/>
            <a:ext cx="4105440" cy="57456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тогенные микроорганизмы вызываю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фекционные заболевания сердц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3564000" y="1197000"/>
            <a:ext cx="5329080" cy="719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достаток кислорода в атмосфере вызыва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ипоксию, меняется  ритм сердечных сокращ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324000" y="5589720"/>
            <a:ext cx="3384360" cy="7207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5dfd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трессовые ситуации истощаю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дечную мышц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AutoShape 9"/>
          <p:cNvSpPr/>
          <p:nvPr/>
        </p:nvSpPr>
        <p:spPr>
          <a:xfrm rot="10800000">
            <a:off x="2700360" y="155736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2771640" y="249228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AutoShape 11"/>
          <p:cNvSpPr/>
          <p:nvPr/>
        </p:nvSpPr>
        <p:spPr>
          <a:xfrm rot="1445400">
            <a:off x="2757600" y="3209760"/>
            <a:ext cx="1492200" cy="250920"/>
          </a:xfrm>
          <a:prstGeom prst="leftArrow">
            <a:avLst>
              <a:gd name="adj1" fmla="val 50000"/>
              <a:gd name="adj2" fmla="val 148673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AutoShape 12"/>
          <p:cNvSpPr/>
          <p:nvPr/>
        </p:nvSpPr>
        <p:spPr>
          <a:xfrm rot="2272800">
            <a:off x="2355480" y="3858840"/>
            <a:ext cx="2448000" cy="282600"/>
          </a:xfrm>
          <a:prstGeom prst="leftArrow">
            <a:avLst>
              <a:gd name="adj1" fmla="val 50000"/>
              <a:gd name="adj2" fmla="val 21656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AutoShape 13"/>
          <p:cNvSpPr/>
          <p:nvPr/>
        </p:nvSpPr>
        <p:spPr>
          <a:xfrm rot="2523000">
            <a:off x="1692000" y="4292640"/>
            <a:ext cx="3470040" cy="253800"/>
          </a:xfrm>
          <a:prstGeom prst="leftArrow">
            <a:avLst>
              <a:gd name="adj1" fmla="val 50000"/>
              <a:gd name="adj2" fmla="val 34180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AutoShape 14"/>
          <p:cNvSpPr/>
          <p:nvPr/>
        </p:nvSpPr>
        <p:spPr>
          <a:xfrm rot="5400000">
            <a:off x="-36000" y="4293360"/>
            <a:ext cx="2160360" cy="289080"/>
          </a:xfrm>
          <a:prstGeom prst="leftArrow">
            <a:avLst>
              <a:gd name="adj1" fmla="val 50000"/>
              <a:gd name="adj2" fmla="val 18683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-353520" y="47520"/>
            <a:ext cx="87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Факторы, негативно влияющие на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ердечно-сосудистую систем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[BIO8_03-21]_[MV_01].wmv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Определение тренированности сердц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84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-  П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   = -------------- * 100%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- частота пульса в положении сид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- частота пульса после 10 приседани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30% - тренированность сердца хорошая, сердце усиливает свою работу за счет увеличения количества крови, выбрасываемой при каждом сокращени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38% - тренированность сердца недостаточн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45% - тренированность  низкая, сердце усиливает свою работу за счет частоты сердечных сокращен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6:57:19Z</dcterms:created>
  <dc:creator>1</dc:creator>
  <dc:description/>
  <dc:language>en-US</dc:language>
  <cp:lastModifiedBy>Воронин</cp:lastModifiedBy>
  <dcterms:modified xsi:type="dcterms:W3CDTF">2015-03-11T11:07:38Z</dcterms:modified>
  <cp:revision>6</cp:revision>
  <dc:subject/>
  <dc:title>СЕРДЦ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